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920-6C51-4D5C-B02D-B6860985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CC3-2A32-46D2-AE39-75020AB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E69-0254-4F8E-81FF-3C47A2DB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701-F3F4-4656-80A3-8A3FAB2D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C1C-41E8-4681-AE6B-E2908013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4E7-B2CA-469D-829E-4909A0D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4C7-F917-456D-892D-14246FE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558-6042-479F-9DA4-2C6145AA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0A1-DBC0-46F8-9F7E-3B6FB56A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69A-DE98-438F-9C25-118CFB7C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4B9-9711-4164-906D-CFFF015A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E88-9491-4388-B7C7-AA6AD63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7EB-C694-491C-8F91-03EEAB2B0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120" y="75420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28:06Z</dcterms:created>
  <dc:creator>Patrick J. Mooney</dc:creator>
  <dc:description/>
  <dc:language>en-US</dc:language>
  <cp:lastModifiedBy>Patrick J. Mooney</cp:lastModifiedBy>
  <dcterms:modified xsi:type="dcterms:W3CDTF">2011-12-01T02:30:17Z</dcterms:modified>
  <cp:revision>2</cp:revision>
  <dc:subject/>
  <dc:title>Slide 1</dc:title>
</cp:coreProperties>
</file>